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7288-3BA7-4F0B-AA13-86B19F2B2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3E55-410B-4327-BB6D-D9F77A121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869-B1EE-4A63-BDDA-38A6F379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757-0667-4F26-9D1E-37E7683E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55C-B826-4755-9EC2-9CA7A698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D6C-357A-4C04-9553-13E99401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9F00-C0F0-473A-9C69-E30357D9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9E04-267F-4322-99AF-213F4D86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1AC7-C679-421B-B39C-CD8F690A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BADD-817A-4B3C-A029-0DCE7576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0ACF-891F-49D9-9AFB-AECDD0B0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2419-3BE3-4EEA-9E34-6E64200C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259B-0F5A-42A1-AA0A-19999805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BBB-9EEE-4E78-978E-7729B9EC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2D08-63D6-4567-B9EA-5D593390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5E11-061B-43A4-8EAB-531B47FD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B291-5023-473C-8AF6-10EAA1B6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041D-FBDF-4654-966F-4E0221A1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5B5C-57D0-4331-8F09-6BC9016C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3EC47-F53C-4DBF-8C77-5E07F998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663CD-B8BF-4CB2-B8B4-8C0516DA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4DD1-49DD-4C11-ACC7-B64FE71E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E0430-75EE-4207-B4BC-5EECB93A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53615-24EB-4096-B82C-0BFFF7D8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04B-DCB1-4146-8A0C-4FF106EE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863A-D14A-4107-B6C0-51918FE0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B448-53AA-47A0-A73A-024CED16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C6112-9C3B-445F-8D9A-FB2B7E9F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29D26-71A4-43ED-9798-D3A761BE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B2B34-9AF6-4F25-B31B-D23A9AA3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79153-569E-4839-AB55-855DF66A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F49A8-B856-49AB-AB95-DCCAEEC2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76BBA-E03B-441B-B903-A46734985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A6AB4-A355-4DA7-84D0-751C549A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B8A1D-A5AA-4A22-A97C-B1BAE522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96D-81D9-4406-B35C-F412B645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D4A17-1FC8-4C44-B9A9-14905D7D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05027-4956-4257-A23D-17954D3D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3F38E-8562-4707-BE6D-17BB3BD5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66E70-C0B9-439F-BEBC-434B5F38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C7ED5-F5DB-42E5-BB0B-2B5E7EEB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94903-D439-4B6F-AE32-7EE62CC8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B9A20-587B-4ED4-A49C-FAEF96B6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9B0F4-6209-4E1C-80B6-8ACF9A71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D51C2-D73E-4FC3-B8A4-B435FB08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4F79E-9F8E-48ED-A93C-140B02E4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6B6-5341-4618-AC99-01FB52D3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8B9C1-7310-47C3-92A2-63812585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2F88E-D20A-40DF-9A17-7AB50706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0C740-E036-4386-AE99-CF835259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2D139-EE7E-4148-B3DB-3C3B1CF9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B3C13-C287-4F14-B6D5-A14D51EE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58B50-ED0A-4946-9F02-699B782E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B15ED-0A1A-45FF-BA4B-7C9FB29D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5A7A6-6EE3-4957-ADA0-1CCD8DC2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12F56-7BCD-4F23-97D7-69248937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5C4A6-F5CB-45D1-AA88-01F5AC4E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58D-73D2-4C1E-AA7E-3194F5E7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169AA-275A-483E-8014-773D4106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4C1-3997-4377-9535-7CE618C2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9F8F-5272-4218-AC5A-A56A99DC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FC3-EE1F-4D5F-B9E6-14FB4A90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67C3-0BC6-4D50-BA85-51A1FC82113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32BF-6389-41F7-A3FE-82A9CE72C84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1CE4-D5A0-49DE-B3DB-1D2917959B4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02C4-15D0-478D-8803-7D6F53ED89C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E3C1-767A-4775-BF48-493F00D8D74D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upreme Cour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952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stice Sonia Sotomay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5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4 y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ack Oba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e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2362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stice Elena Kaga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5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3 y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ack Oba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e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ederal Court Structur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65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urt Calendar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762120" y="6094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OTUS hears cases from October—M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762120" y="121932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ses are heard for two weeks—two weeks to conference, prepare for future cases, write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762120" y="2590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dnesday, Friday—Court debates cases.  All discussion starts with Chief 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838080" y="40384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,000 cases requests per year—80 cases and 130 decisions ar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dical Re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838080" y="1143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ed in </a:t>
            </a:r>
            <a:r>
              <a:rPr b="0" lang="en-US" sz="2800" spc="-1" strike="noStrike">
                <a:solidFill>
                  <a:srgbClr val="b45f07"/>
                </a:solidFill>
                <a:latin typeface="Verdana"/>
              </a:rPr>
              <a:t>Marbury vs Mad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914400" y="198108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preme Court had the power to rule on the Constitutionality of any Federal law and was to be the last voice on all things Constitu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914400" y="403848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ses are mainly heard to answer a constitutional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risdic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838080" y="465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Origin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Jurisdi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Cases that start and end with the Supreme Court—Gore v Bu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838080" y="1371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5f07"/>
                </a:solidFill>
                <a:latin typeface="Arial"/>
              </a:rPr>
              <a:t>Appellate Jurisd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Cases by App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838080" y="1981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Writ of certiorar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Higher court asks a lower court to send the record of a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838080" y="3048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5f07"/>
                </a:solidFill>
                <a:latin typeface="Arial"/>
              </a:rPr>
              <a:t>Rule of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4 justices have to agree to hear a case on app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838080" y="39625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Certific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-Lower court asks SCOTUS to certify or provide an answer to a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rocedure—Brief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914400" y="9144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5f07"/>
                </a:solidFill>
                <a:latin typeface="Arial"/>
              </a:rPr>
              <a:t>Brief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written arguments filed before a case can be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9907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5f07"/>
                </a:solidFill>
                <a:latin typeface="Arial"/>
              </a:rPr>
              <a:t>Amicus Cu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Friend of the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990720" y="3124080"/>
            <a:ext cx="670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5f07"/>
                </a:solidFill>
                <a:latin typeface="Verdana"/>
              </a:rPr>
              <a:t>Solicitor Gener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main lawyer who argues cases before SCOTUS—also provides amicus briefs for cases of government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ral Argumen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914400" y="11430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wyers from each side get 3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990720" y="25146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ten interrupted by justices—Marshall interrupted 127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990720" y="38862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stices usually have their minds made up by the time arguments are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pin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914400" y="6397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Major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opinion that ultimately decided the case becomes </a:t>
            </a: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judicial preced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-decision that has the force of law and how other similar cases are to be decided</a:t>
            </a: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914400" y="24382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Concurr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Written by a member of the majority who has a special point 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990720" y="358128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b45f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5f07"/>
                </a:solidFill>
                <a:latin typeface="Verdana"/>
              </a:rPr>
              <a:t>Dissen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Written by a member of the minority explaining why he/she disagrees—can be used for future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upreme Court Justices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086600" cy="4656240"/>
          </a:xfrm>
          <a:prstGeom prst="rect">
            <a:avLst/>
          </a:prstGeom>
          <a:ln w="0">
            <a:noFill/>
          </a:ln>
        </p:spPr>
      </p:pic>
      <p:pic>
        <p:nvPicPr>
          <p:cNvPr id="231" name="01 Track 1.wma" descr=""/>
          <p:cNvPicPr/>
          <p:nvPr/>
        </p:nvPicPr>
        <p:blipFill>
          <a:blip r:embed="rId2"/>
          <a:stretch/>
        </p:blipFill>
        <p:spPr>
          <a:xfrm>
            <a:off x="9907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98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ief Justice John Rober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2590920" cy="2743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5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8 y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orge W Bu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erva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02 Track 2.wma" descr=""/>
          <p:cNvPicPr/>
          <p:nvPr/>
        </p:nvPicPr>
        <p:blipFill>
          <a:blip r:embed="rId2"/>
          <a:stretch/>
        </p:blipFill>
        <p:spPr>
          <a:xfrm>
            <a:off x="9907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5542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stice Antonin Scali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7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27 y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nald Reag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Conserva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25146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stice Anthony Kenned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77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25 y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nald Reag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wing Vo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2800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stice Clarence Thom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6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22 y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orge H.W. Bu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Conserva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2495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stice Ruth Bader Ginsbur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8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20 y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ll Clint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be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2667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stice Stephen Brey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7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19 y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ll Clint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e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289548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Justice Samuel Alit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—6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ngth of Service—7 y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orge W Bus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erva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2895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6:30:32Z</dcterms:created>
  <dc:creator>lullmannj</dc:creator>
  <dc:description/>
  <dc:language>en-US</dc:language>
  <cp:lastModifiedBy>lullmannj</cp:lastModifiedBy>
  <dcterms:modified xsi:type="dcterms:W3CDTF">2013-04-23T12:48:44Z</dcterms:modified>
  <cp:revision>36</cp:revision>
  <dc:subject/>
  <dc:title>Supreme Court</dc:title>
</cp:coreProperties>
</file>